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C1B-1898-4B18-B865-3FB4C840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180-D370-4DB3-8171-AB7AC69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9AD-F07C-4C12-8994-F60441BB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8E0-1E17-4AD0-A718-B551DF70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6DA-1252-4E6B-AA5B-4EA6282D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9F8-0867-446F-9C23-B7680BE8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2D4-9D89-4843-9B3C-56BA6E5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184-1930-495F-B2CA-BC3A2CDC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79C-ECCE-4770-980F-344BAD0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114-258D-4997-95BF-0A2682B4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203-93B7-48E2-B0FF-2DD6A779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CEE-841B-4125-9100-5D16CF0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7F58-E260-4C32-8E5B-B8A1556A6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7632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76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067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7632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858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7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35:07Z</dcterms:created>
  <dc:creator>Dina Winterton</dc:creator>
  <dc:description/>
  <dc:language>en-US</dc:language>
  <cp:lastModifiedBy>Dina Winterton</cp:lastModifiedBy>
  <dcterms:modified xsi:type="dcterms:W3CDTF">2010-03-24T18:44:49Z</dcterms:modified>
  <cp:revision>3</cp:revision>
  <dc:subject/>
  <dc:title>Slide 1</dc:title>
</cp:coreProperties>
</file>